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BE3-066B-4829-A756-FE23686E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FE8-A129-4E76-A058-8AD70B8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4BE-F0D2-451B-921F-43211FF3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C9C-B70D-48EF-9087-E547FDBA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3EF-AD3F-4048-BA08-BF8A2EC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3D7-61DF-4C00-B92C-5032BFF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9A7-2CD3-4C80-BA18-534E48A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8C7-ADF9-4522-9B90-5D5AB869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59A-8FCE-4F37-833E-997752E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A87-1A3E-42FE-9115-440D6222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239-2D91-48B2-902D-41E862E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D1B-00A2-41B5-8362-15DAA10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4F7-8E71-47C5-B257-879CBBD9A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392\other392\Biology 392\Unit 3 - Chapters 2,38\Human Digestive System.jpg"/>
          <p:cNvPicPr/>
          <p:nvPr/>
        </p:nvPicPr>
        <p:blipFill>
          <a:blip r:embed="rId1"/>
          <a:stretch/>
        </p:blipFill>
        <p:spPr>
          <a:xfrm>
            <a:off x="5638680" y="380880"/>
            <a:ext cx="3391200" cy="616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CESS OF DI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38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33520" y="380880"/>
          <a:ext cx="8229600" cy="6365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 SUBSTANCES INVOVLED IN DI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istens 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ophagus, 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. &amp; Lg. Intest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s food move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cts org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chloric Acid (H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s breakdown 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ls bac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dium bicarbo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ade in pancre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tralizes acid so enzymes can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ade in liv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ed in gall blad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arates fat droplets, making them easier to break dow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 breakdown 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vitamin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ym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broken in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omers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mu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enter” the bod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be circul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across the cell membranes of each cell lining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area of S.I. is increased by 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Villi and microvi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392\other392\Biology 392\Unit 3 - Chapters 2,38\villi.gif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lso absor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across the wall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at is left is concentrate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gested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ose, fi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392\other392\Biology 392\Unit 3 - Chapters 2,38\gisystem275.gif"/>
          <p:cNvPicPr/>
          <p:nvPr/>
        </p:nvPicPr>
        <p:blipFill>
          <a:blip r:embed="rId1"/>
          <a:stretch/>
        </p:blipFill>
        <p:spPr>
          <a:xfrm>
            <a:off x="533520" y="1143000"/>
            <a:ext cx="3886200" cy="5459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ndigested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ves through large intestine and is held i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tum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til it is elimina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tbur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omach acid enters esophagus because of weak cardiac sphinc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ptic Ulc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le in stomach wall caus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licobacter pyl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The pain is caused by the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rrh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enough water is absor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tip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o much water is absor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be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lucose cannot enter cells of body very well, therefore glucose cannot get turned into energy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iller in America (and ri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ncre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not produce insulin or the body does not use it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ulin is a hormo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decreases the amount of sugar in the blood by helping i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ter the cel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se does not enter cells easily, insulin must “act like a butler” and bind to a cell membrane protein to help it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own Arrow 3"/>
          <p:cNvSpPr/>
          <p:nvPr/>
        </p:nvSpPr>
        <p:spPr>
          <a:xfrm>
            <a:off x="8229600" y="28954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MCj02798720000[1]"/>
          <p:cNvPicPr/>
          <p:nvPr/>
        </p:nvPicPr>
        <p:blipFill>
          <a:blip r:embed="rId1"/>
          <a:stretch/>
        </p:blipFill>
        <p:spPr>
          <a:xfrm>
            <a:off x="7238880" y="4800600"/>
            <a:ext cx="1517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2 types of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digestion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MOST digestion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nutrients enter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f the body? (i.e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ve the GI tra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392\other392\Biology 392\Unit 3 - Chapters 2,38\villi.gif"/>
          <p:cNvPicPr/>
          <p:nvPr/>
        </p:nvPicPr>
        <p:blipFill>
          <a:blip r:embed="rId1"/>
          <a:stretch/>
        </p:blipFill>
        <p:spPr>
          <a:xfrm>
            <a:off x="3143160" y="1943280"/>
            <a:ext cx="285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F:\392\other392\Biology 392\Unit 3 - Chapters 2,38\color.gif"/>
          <p:cNvPicPr/>
          <p:nvPr/>
        </p:nvPicPr>
        <p:blipFill>
          <a:blip r:embed="rId1"/>
          <a:stretch/>
        </p:blipFill>
        <p:spPr>
          <a:xfrm>
            <a:off x="2685960" y="2116080"/>
            <a:ext cx="3772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360" y="837720"/>
            <a:ext cx="3352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1040" indent="-5086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 Mechan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1040" indent="-5086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Che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392\other392\Biology 392\Unit 3 - Chapters 2,38\color.gif"/>
          <p:cNvPicPr/>
          <p:nvPr/>
        </p:nvPicPr>
        <p:blipFill>
          <a:blip r:embed="rId1"/>
          <a:stretch/>
        </p:blipFill>
        <p:spPr>
          <a:xfrm>
            <a:off x="4781520" y="1295280"/>
            <a:ext cx="3772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392\other392\Biology 392\Unit 3 - Chapters 2,38\gisystem275.gif"/>
          <p:cNvPicPr/>
          <p:nvPr/>
        </p:nvPicPr>
        <p:blipFill>
          <a:blip r:embed="rId1"/>
          <a:stretch/>
        </p:blipFill>
        <p:spPr>
          <a:xfrm>
            <a:off x="3262320" y="2592360"/>
            <a:ext cx="2619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F:\392\other392\Biology 392\Unit 3 - Chapters 2,38\glucose.gif"/>
          <p:cNvPicPr/>
          <p:nvPr/>
        </p:nvPicPr>
        <p:blipFill>
          <a:blip r:embed="rId1"/>
          <a:stretch/>
        </p:blipFill>
        <p:spPr>
          <a:xfrm>
            <a:off x="4038480" y="3276720"/>
            <a:ext cx="971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F:\392\other392\Biology 392\Unit 3 - Chapters 2,38\glucose.gif"/>
          <p:cNvPicPr/>
          <p:nvPr/>
        </p:nvPicPr>
        <p:blipFill>
          <a:blip r:embed="rId1"/>
          <a:stretch/>
        </p:blipFill>
        <p:spPr>
          <a:xfrm>
            <a:off x="6705720" y="3200400"/>
            <a:ext cx="9712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Program Files\Microsoft Office\MEDIA\CAGCAT10\j0295241.gif"/>
          <p:cNvPicPr/>
          <p:nvPr/>
        </p:nvPicPr>
        <p:blipFill>
          <a:blip r:embed="rId2"/>
          <a:stretch/>
        </p:blipFill>
        <p:spPr>
          <a:xfrm>
            <a:off x="228600" y="685800"/>
            <a:ext cx="3429000" cy="5070600"/>
          </a:xfrm>
          <a:prstGeom prst="rect">
            <a:avLst/>
          </a:prstGeom>
          <a:ln w="0">
            <a:noFill/>
          </a:ln>
        </p:spPr>
      </p:pic>
      <p:sp>
        <p:nvSpPr>
          <p:cNvPr id="50" name="Right Arrow 5"/>
          <p:cNvSpPr/>
          <p:nvPr/>
        </p:nvSpPr>
        <p:spPr>
          <a:xfrm>
            <a:off x="5029200" y="3429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495680" y="144792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down large food molecules into smaller nutr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0040" y="426708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I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ERISTAL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EFE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133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D TUB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ryn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90960" y="1294920"/>
            <a:ext cx="2895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CESSORY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0960" y="2174760"/>
            <a:ext cx="2895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ll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392\other392\Biology 392\Unit 3 - Chapters 2,38\gisystem275.gif"/>
          <p:cNvPicPr/>
          <p:nvPr/>
        </p:nvPicPr>
        <p:blipFill>
          <a:blip r:embed="rId1"/>
          <a:stretch/>
        </p:blipFill>
        <p:spPr>
          <a:xfrm>
            <a:off x="2971800" y="1828800"/>
            <a:ext cx="29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u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istens &amp; tears food, results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OL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chewed clump of 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ophag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lus moves through tube b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PERISTAL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hythmic cont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hincte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ight rings of muscles that close and open to separate the different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ctr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ARDIAC SPHIN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om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churning, food is liquefie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H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ctr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PYLORIC SPHIN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istal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vement through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sor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villi of small intestine into blood strea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trients travel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all cells of body (brain is the prior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&amp; Carbs go into b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fats go into lymphatic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is absorb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gested material passes through rect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dy through a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OF DI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ing food into smaller parts by ripping, ch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ar &amp; cru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MA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m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ym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 bo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food molec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ymes are made and used by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always the s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nzyme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a type of macromolec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, fat or pro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Digestion occur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Nutrient is Digest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05120"/>
          <a:ext cx="8153280" cy="426708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74320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DI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TRIENT DIGES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228600"/>
          <a:ext cx="8305920" cy="6281640"/>
        </p:xfrm>
        <a:graphic>
          <a:graphicData uri="http://schemas.openxmlformats.org/drawingml/2006/table">
            <a:tbl>
              <a:tblPr/>
              <a:tblGrid>
                <a:gridCol w="1409760"/>
                <a:gridCol w="1959120"/>
                <a:gridCol w="2820960"/>
                <a:gridCol w="2116080"/>
              </a:tblGrid>
              <a:tr h="61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ZYMES OF DI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of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ENT DIGES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p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y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tid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t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ry glan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tom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21:59:39Z</dcterms:created>
  <dc:creator>Joanne Lilliendahl</dc:creator>
  <dc:description/>
  <dc:language>en-US</dc:language>
  <cp:lastModifiedBy>MVanElli</cp:lastModifiedBy>
  <dcterms:modified xsi:type="dcterms:W3CDTF">2010-10-21T13:51:12Z</dcterms:modified>
  <cp:revision>28</cp:revision>
  <dc:subject/>
  <dc:title>PROCESS OF DIGESTION</dc:title>
</cp:coreProperties>
</file>